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247-3ED6-4FF1-A948-734AA43B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177-AFF9-4ABC-AC5B-67AB474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51D-8191-4B56-8330-3A150ADD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141-4B56-44D2-B549-323CAA11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AAF-0B92-471E-868D-AE74820A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6DC-7E20-43B7-B9E5-3A0D0504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14A-EED5-46EE-8657-E2D0DA5E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537-DDC3-4E07-AE56-84A1811F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6BC-041D-4B69-B070-A360E7BC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094-6562-4AE7-95B3-B337DDB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04F-8614-4279-BF0E-24AE5A5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0D6-7B7D-40DD-9E27-C6552BE5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62D5-C9A7-432D-980A-0B90D3933EC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9 V tvojom do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vätý Pan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vojom dome, svät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me tebe chválu vz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dnes nové požehn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z ruky tvojej smieme vzi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dvráť myseľ od már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som neba naplň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nás vedie k posluš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voj Duch Svätý v k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žalmoch chv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lovách pies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ijmi našej vďaky hlas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e si s nami v každej ties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voja láska bl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í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dvráť myseľ od már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som neba naplň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nás vedie k posluš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voj Duch Svätý v k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úžobne už, Spasit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tvoj príchod čak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rak svoj denne k viery ci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 nebu smelo dvíh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dvráť myseľ od már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som neba naplň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nás vedie k posluš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voj Duch Svätý v k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57:36Z</dcterms:modified>
  <cp:revision>26</cp:revision>
  <dc:subject/>
  <dc:title>Je veľký náš Pán, on slávy je Kráľ Nech do všetkých strán  spev vrúcnych znie chvál.</dc:title>
</cp:coreProperties>
</file>